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70A-104C-4ACE-B92A-0F76270F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F3C-7185-4DA5-865F-03B33B32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361-C1A3-46FA-A52B-A15F9A8E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D07-DB1E-45E1-A63E-5509743D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A8F-0021-4E29-AC7C-C65709D6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7E1-02C0-49AC-A8D7-3F70427D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A5E-711A-4F22-993A-70801DB7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AE4-CF51-4C02-BAD7-36CE3F19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622-2D50-4B12-B289-D82D42B3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871-41B8-4279-9007-F568F014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0C5-FB89-45DB-A34D-6256D88B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689-F579-41FB-B334-902DC415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85FA-5230-4453-A108-8D71BE270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eginnings of Our Global Age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urope, Africa, and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4: Encounters in East Asia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pgs. 99-1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uropean Contact with Ming China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g let Europeans trade, but only for  _________or 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ortuguese had a trading post at _____________ near Canton in present-day 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limited their visits to ___ area and ___ season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Contact with Ming China co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 miss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led by _____________________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welcomed for their 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had ___________success in converting the Chin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became important ___________ of ______________ for Europeans who knew little about Chi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chu Con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arly 1600s ______ dynasty decay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nchus pushed through __________ &amp; ruled in the _________, Manchu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- Manchu armies took control of ________ &amp; set up the _____ dynas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anded China’s ________ to create largest Chinese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on support of Chinese b/c  adopted ____________ system of govern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ocal gov’t ruled by ___________, but __________ troops stationed throughout empire to ensure loyal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800"/>
            </a:br>
            <a:br>
              <a:rPr sz="4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nchu Conqu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t…</a:t>
            </a:r>
            <a:br>
              <a:rPr sz="2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Kangxi and _____________ expanded Chinese border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merican ________ helped to fuel a population boom in Chin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Qing maintained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ing policy and rejected an appeal from _________ for more tra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iplomat, _______________insulted the Chinese b/c he wouldn’t perform __________ in order to see the emper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: The “______Kingdom”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500s and 1600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ed contact from outsid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___________dynasty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lowed the Confucian idea that merchants held low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response to invasions by the _____________ and 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Korea isolated itself, excluding most 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ign Traders in Japan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first                                                                                                                                                     *Japanese welcomed __________    tr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 ___________,or warrior lords adopted European firearms &amp; helped the  _____________ family centralize power and keep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Christian missionaries ___________ at winning conve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ign Traders in Jap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ahoma"/>
              </a:rPr>
              <a:t>Afte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 seized the Philipp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Japan __________ European tra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only allowed Dutch to trade in _______________ harbor once a ye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murdered Japanese __________ b/c     feared they owed allegiance to the _________ rather than the Tokuga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shut off contact with the ________  _______ for over _____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2532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23:52:13Z</dcterms:created>
  <dc:creator>Lawrence Public Schools</dc:creator>
  <dc:description/>
  <dc:language>en-US</dc:language>
  <cp:lastModifiedBy>shoyer</cp:lastModifiedBy>
  <dcterms:modified xsi:type="dcterms:W3CDTF">2008-10-27T15:40:55Z</dcterms:modified>
  <cp:revision>16</cp:revision>
  <dc:subject/>
  <dc:title>The Beginnings of Our Global Age: Europe, Africa, and Asia</dc:title>
</cp:coreProperties>
</file>